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D25A-72F3-41ED-8567-EFB91757D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5DE-89E5-4269-8E85-68DED475D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68B7-D2FA-4071-BCBE-A5F2799D3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D63-855A-4321-924B-3BB6D744A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D026-5DFC-44A4-874F-1D5A7284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F33A-2A78-493A-A651-5838F95EC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AE2F-A2E1-4DE1-AF73-90A07C6B1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1A83-3891-42C2-B79E-1D17F64D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D01C-E754-4E26-A3A1-0F4F1CF1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FF2-9548-4240-81DF-85203D52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F568-4861-4306-9A22-670DDCF3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16A1-09E0-4CD1-8258-DE298852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89726-9A35-4DCA-983F-612FD319D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41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Magneto"/>
              </a:rPr>
              <a:t>Liceo Francisco del Rosario Sánchez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cc"/>
                </a:solidFill>
                <a:latin typeface="comic"/>
              </a:rPr>
              <a:t>4</a:t>
            </a:r>
            <a:r>
              <a:rPr b="0" i="1" lang="en-US" sz="2800" spc="-1" strike="noStrike">
                <a:solidFill>
                  <a:srgbClr val="0000cc"/>
                </a:solidFill>
                <a:latin typeface="comic"/>
              </a:rPr>
              <a:t>to </a:t>
            </a:r>
            <a:r>
              <a:rPr b="0" lang="en-US" sz="7200" spc="-1" strike="noStrike">
                <a:solidFill>
                  <a:srgbClr val="0000cc"/>
                </a:solidFill>
                <a:latin typeface="comic"/>
              </a:rPr>
              <a:t>c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comic"/>
              </a:rPr>
              <a:t>matuti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13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Prof.</a:t>
            </a:r>
            <a:br>
              <a:rPr sz="4000"/>
            </a:br>
            <a:br>
              <a:rPr sz="4000"/>
            </a:br>
            <a:r>
              <a:rPr b="0" lang="en-US" sz="8000" spc="-1" strike="noStrike">
                <a:solidFill>
                  <a:srgbClr val="ff0000"/>
                </a:solidFill>
                <a:latin typeface="Matura MT Script Capitals"/>
              </a:rPr>
              <a:t>Alba Castillo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auhaus 93"/>
              </a:rPr>
              <a:t>Tema:</a:t>
            </a:r>
            <a:br>
              <a:rPr sz="4000"/>
            </a:br>
            <a:br>
              <a:rPr sz="4000"/>
            </a:br>
            <a:r>
              <a:rPr b="0" lang="en-US" sz="7200" spc="-1" strike="noStrike">
                <a:solidFill>
                  <a:srgbClr val="ff0000"/>
                </a:solidFill>
                <a:latin typeface="Matura MT Script Capitals"/>
              </a:rPr>
              <a:t> Día de la Mujer</a:t>
            </a:r>
            <a:r>
              <a:rPr b="0" lang="en-US" sz="9600" spc="-1" strike="noStrike">
                <a:solidFill>
                  <a:srgbClr val="ff0000"/>
                </a:solidFill>
                <a:latin typeface="Matura MT Script Capitals"/>
              </a:rPr>
              <a:t>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0"/>
            <a:ext cx="4506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El día internacional de la mujer, originalmente llamado Día internacional de la mujer trabajadora, se celebra el día 8 de marzo y esta reconocido por la Organización de la Naciones Unida,(ONU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En este dia se conmemora la lucha de la mujer por su participacion, en pie de igualdad con el hombre, en la sociedad y en su desarrollo integro como perso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1767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56000" y="260280"/>
            <a:ext cx="46800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En fiesta nacional, en algunos países la idea de un día internacional de la Mujer surgió a final del siglo XIX , en plena revolución industrial y durante el auge del movimiento obr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La celebración recoge una lucha ya emprendida en la antigua Grecia ya reflejada por Aristopanes en su obra Lisis tra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60400" y="1557360"/>
            <a:ext cx="3230640" cy="43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2920" y="260280"/>
            <a:ext cx="4249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Las mujeres parisinas, que pedían libertad, igualdad y fraternidad, marcharon hacia versalles para exigir su sufragio femenino, pero no fue si no hasta los primeros años del siglo XX  cuando se comenzó a proclamar, desde diferentes organizaciones internacionales de izquierda, la celebración es una jornada de lucha especifica para la mujer y sus derech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3888000" cy="25207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9640" y="3938760"/>
            <a:ext cx="3816360" cy="25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Matura MT Script Capitals"/>
              </a:rPr>
              <a:t>Conclusió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Esperamos le hella gu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ff"/>
              </a:buClr>
              <a:buFont typeface="Harlow Solid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ff"/>
                </a:solidFill>
                <a:latin typeface="Harlow Solid Italic"/>
              </a:rPr>
              <a:t>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00720" y="1413000"/>
            <a:ext cx="4535280" cy="40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4:13:01Z</dcterms:created>
  <dc:creator>Wolf</dc:creator>
  <dc:description/>
  <dc:language>en-US</dc:language>
  <cp:lastModifiedBy>Wolf</cp:lastModifiedBy>
  <dcterms:modified xsi:type="dcterms:W3CDTF">2002-01-01T04:48:52Z</dcterms:modified>
  <cp:revision>2</cp:revision>
  <dc:subject/>
  <dc:title>Liceo Francisco del Rosario Sánchez </dc:title>
</cp:coreProperties>
</file>